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F9FDC-BB14-429E-AAF4-4A9B1CB9D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819A3-7025-4E6A-84F8-BD54CDB12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066F8-A3A4-435C-BDE3-E4F64A898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52E82-1D2A-453F-BCF8-73C05126B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BA5C2-C31D-4E3A-AE34-CECD00809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C5796-86ED-459D-A001-9EF6298D7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9DB20-B82F-4665-9B02-4B60A6F95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E1C44-B3A4-4867-9F90-A0CF817CB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C4D8C-1F61-4292-B384-59181366F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4BE2E-03CE-4991-8859-AB2DAFB7E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1D422-8404-4ABD-8395-2611390F7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C8DE1-D467-4933-8A89-FB2EF9FBA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42F87-9360-4668-B770-268AAF7F76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Line 6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7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9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0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1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2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feld 1"/>
          <p:cNvSpPr/>
          <p:nvPr/>
        </p:nvSpPr>
        <p:spPr>
          <a:xfrm>
            <a:off x="503280" y="368280"/>
            <a:ext cx="75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used in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ica.Mechanics.MultiBody.Examples.Loops.PlanarLoops_analy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Otter, Martin</cp:lastModifiedBy>
  <dcterms:modified xsi:type="dcterms:W3CDTF">2012-10-06T04:39:44Z</dcterms:modified>
  <cp:revision>2</cp:revision>
  <dc:subject/>
  <dc:title>Folie 1</dc:title>
</cp:coreProperties>
</file>